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8A3CA-CA2F-472A-A43E-26B6CD6150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asuring, calculating and drawing angles..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ur learning objectives tod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use a protractor to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asure acute and obtuse angles to the nearest degre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raw acute and obtuse angles to the nearest degre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calculate angles on a straight lin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ing, calculating and drawing angles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learning objectives to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use a protractor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 acute and obtuse angles to the nearest degr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acute and obtuse angles to the nearest degr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alculate angles on a straight 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do we use to help us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protrac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re is a standard protractor like you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se in the classroom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we use to help u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rotra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is a standard protractor like yo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in the classro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n we use a protractor, we need to line it up correctl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ou need to make sure the protractor is lined up correctl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s this ready to measure the angl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e use a protractor, we need to line it up correct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need to make sure the protractor is lined up correct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is ready to measure the ang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ere you right......................it wasn’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ok for the upside down ‘T’ in the middle of the straight line on your protractor.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needs to be exactly on the vertex of your angl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re you right......................it wasn’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the upside down ‘T’ in the middle of the straight line on your protractor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needs to be exactly on the vertex of your 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e need to remember....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doesn’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tter which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ay round th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gle is, you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WAYS need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line the up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wn ‘T’ to the verte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f the angl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need to remember..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doesn’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er whi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 round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le is, yo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ne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line the up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 ‘T’ to the vert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w you are read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ad from the 0°, and follow the inner set of number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you are rea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 from the 0°, and follow the inner set of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ce you reach 30° you need to be careful!!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ou then need to look at the 1° markings on the outer set of number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you reach 30° you need to be careful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then need to look at the 1° markings on the outer set of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does it measur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angle measures 35°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it measu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ngle measures 35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asuring, calculating and drawing angles..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member our learning objectives today a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use a protractor to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asure acute and obtuse angles to the nearest degre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raw acute and obtuse angles to the nearest degre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calculate angles on a straight lin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ing, calculating and drawing angles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our learning objectives today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use a protractor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 acute and obtuse angles to the nearest degr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acute and obtuse angles to the nearest degr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alculate angles on a straight 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AB40-EA1A-4000-B85E-2431F516B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524A-6C03-4F2E-9BE7-0AEBBC3C0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AE86-7A84-4AB2-8520-341BFE6A3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FBBC-3413-4078-A77B-FDC66EE48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AD69-FE0C-48FA-A313-8C3F4AE1E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66B3-A402-4E7E-9D79-E94F6D062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4DC8-761D-4435-B94B-7CE54F6AB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5597-BDD0-4309-9B9F-8C3920386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7F78-45AA-45AD-8DD2-8478CF0DA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8C98-0BE3-466C-BB98-FE9E15400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EBC8-5340-4B71-8AE0-2E4C7010E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E17D-8070-4DC7-BB53-522AEC81F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141DA-F444-49AE-A4DA-4C6DB5F025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ffff00"/>
                </a:solidFill>
                <a:latin typeface="Comic Sans MS"/>
              </a:rPr>
              <a:t>Measuring, calculating and drawing angles..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Comic Sans MS"/>
              </a:rPr>
              <a:t>Our learning objectives to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ff"/>
                </a:solidFill>
                <a:latin typeface="Comic Sans MS"/>
              </a:rPr>
              <a:t>To use a protractor t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ff"/>
                </a:solidFill>
                <a:latin typeface="Comic Sans MS"/>
              </a:rPr>
              <a:t>measure acute and obtuse angles to the nearest degre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ff"/>
                </a:solidFill>
                <a:latin typeface="Comic Sans MS"/>
              </a:rPr>
              <a:t>draw acute and obtuse angles to the nearest degre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ff"/>
                </a:solidFill>
                <a:latin typeface="Comic Sans MS"/>
              </a:rPr>
              <a:t>To calculate angles on a straight li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Picture 4" descr="MCj03404080000[1]"/>
          <p:cNvPicPr/>
          <p:nvPr/>
        </p:nvPicPr>
        <p:blipFill>
          <a:blip r:embed="rId1"/>
          <a:stretch/>
        </p:blipFill>
        <p:spPr>
          <a:xfrm rot="1230000">
            <a:off x="1403280" y="5157720"/>
            <a:ext cx="280692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495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6375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9825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305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5525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ffff00"/>
                </a:solidFill>
                <a:latin typeface="Comic Sans MS"/>
              </a:rPr>
              <a:t>What do we use to help us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273672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A protrac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Picture 4" descr="Protractor"/>
          <p:cNvPicPr/>
          <p:nvPr/>
        </p:nvPicPr>
        <p:blipFill>
          <a:blip r:embed="rId1"/>
          <a:stretch/>
        </p:blipFill>
        <p:spPr>
          <a:xfrm>
            <a:off x="1547640" y="2133720"/>
            <a:ext cx="6048720" cy="331776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5"/>
          <p:cNvSpPr/>
          <p:nvPr/>
        </p:nvSpPr>
        <p:spPr>
          <a:xfrm>
            <a:off x="801720" y="5589720"/>
            <a:ext cx="751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Here is a standard protractor like yo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use in the classroo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15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075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4075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ffff00"/>
                </a:solidFill>
                <a:latin typeface="Comic Sans MS"/>
              </a:rPr>
              <a:t>When we use a protractor, we need to line it up correctly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4000" y="5084280"/>
            <a:ext cx="7272360" cy="12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You need to make sure the protractor is lined up correctl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Is this ready to measure the angle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Picture 4" descr="Protractor"/>
          <p:cNvPicPr/>
          <p:nvPr/>
        </p:nvPicPr>
        <p:blipFill>
          <a:blip r:embed="rId1"/>
          <a:stretch/>
        </p:blipFill>
        <p:spPr>
          <a:xfrm>
            <a:off x="2556000" y="2781360"/>
            <a:ext cx="3960720" cy="2173320"/>
          </a:xfrm>
          <a:prstGeom prst="rect">
            <a:avLst/>
          </a:prstGeom>
          <a:ln w="0">
            <a:noFill/>
          </a:ln>
        </p:spPr>
      </p:pic>
      <p:sp>
        <p:nvSpPr>
          <p:cNvPr id="58" name="Line 5"/>
          <p:cNvSpPr/>
          <p:nvPr/>
        </p:nvSpPr>
        <p:spPr>
          <a:xfrm flipV="1">
            <a:off x="3348000" y="2636640"/>
            <a:ext cx="2952720" cy="2089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Line 6"/>
          <p:cNvSpPr/>
          <p:nvPr/>
        </p:nvSpPr>
        <p:spPr>
          <a:xfrm>
            <a:off x="3348000" y="4724280"/>
            <a:ext cx="3673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3525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6025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07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600" spc="-1" strike="noStrike">
                <a:solidFill>
                  <a:srgbClr val="ffff00"/>
                </a:solidFill>
                <a:latin typeface="Comic Sans MS"/>
              </a:rPr>
              <a:t>Were you right......................it wasn’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55640" y="5013360"/>
            <a:ext cx="777240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Look for the upside down ‘T’ in the middle of the straight line on your protractor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This needs to be exactly on the vertex of your ang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" name="Picture 4" descr="Protractor"/>
          <p:cNvPicPr/>
          <p:nvPr/>
        </p:nvPicPr>
        <p:blipFill>
          <a:blip r:embed="rId1"/>
          <a:stretch/>
        </p:blipFill>
        <p:spPr>
          <a:xfrm>
            <a:off x="1258920" y="1628640"/>
            <a:ext cx="3960720" cy="2173320"/>
          </a:xfrm>
          <a:prstGeom prst="rect">
            <a:avLst/>
          </a:prstGeom>
          <a:ln w="0">
            <a:noFill/>
          </a:ln>
        </p:spPr>
      </p:pic>
      <p:sp>
        <p:nvSpPr>
          <p:cNvPr id="63" name="Line 5"/>
          <p:cNvSpPr/>
          <p:nvPr/>
        </p:nvSpPr>
        <p:spPr>
          <a:xfrm flipV="1">
            <a:off x="3203640" y="1483920"/>
            <a:ext cx="2952720" cy="2089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Line 6"/>
          <p:cNvSpPr/>
          <p:nvPr/>
        </p:nvSpPr>
        <p:spPr>
          <a:xfrm>
            <a:off x="3203640" y="3573360"/>
            <a:ext cx="3673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AutoShape 7"/>
          <p:cNvSpPr/>
          <p:nvPr/>
        </p:nvSpPr>
        <p:spPr>
          <a:xfrm>
            <a:off x="2987640" y="371628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3150"/>
                            </p:stCondLst>
                            <p:childTnLst>
                              <p:par>
                                <p:cTn id="6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365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1975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700560" y="476280"/>
            <a:ext cx="563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600" spc="-1" strike="noStrike">
                <a:solidFill>
                  <a:srgbClr val="ffff00"/>
                </a:solidFill>
                <a:latin typeface="Comic Sans MS"/>
              </a:rPr>
              <a:t>We need to remember....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Picture 3" descr="Protractor"/>
          <p:cNvPicPr/>
          <p:nvPr/>
        </p:nvPicPr>
        <p:blipFill>
          <a:blip r:embed="rId1"/>
          <a:stretch/>
        </p:blipFill>
        <p:spPr>
          <a:xfrm rot="2578200">
            <a:off x="2700000" y="1844280"/>
            <a:ext cx="3960720" cy="2173320"/>
          </a:xfrm>
          <a:prstGeom prst="rect">
            <a:avLst/>
          </a:prstGeom>
          <a:ln w="0">
            <a:noFill/>
          </a:ln>
        </p:spPr>
      </p:pic>
      <p:sp>
        <p:nvSpPr>
          <p:cNvPr id="68" name="Line 4"/>
          <p:cNvSpPr/>
          <p:nvPr/>
        </p:nvSpPr>
        <p:spPr>
          <a:xfrm>
            <a:off x="4067280" y="3502080"/>
            <a:ext cx="3600360" cy="5032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Line 5"/>
          <p:cNvSpPr/>
          <p:nvPr/>
        </p:nvSpPr>
        <p:spPr>
          <a:xfrm>
            <a:off x="4067280" y="3500280"/>
            <a:ext cx="2736720" cy="2592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AutoShape 6"/>
          <p:cNvSpPr/>
          <p:nvPr/>
        </p:nvSpPr>
        <p:spPr>
          <a:xfrm rot="2581200">
            <a:off x="3419280" y="350028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446400" y="2371680"/>
            <a:ext cx="37378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It doesn’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matter which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way round th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angle is, yo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ALWAYS nee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to line the upsi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down ‘T’ to the verte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of the ang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6443640" y="1628640"/>
            <a:ext cx="237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575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8775"/>
                            </p:stCondLst>
                            <p:childTnLst>
                              <p:par>
                                <p:cTn id="8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9275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ffff00"/>
                </a:solidFill>
                <a:latin typeface="Comic Sans MS"/>
              </a:rPr>
              <a:t>Now you are ready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5300640"/>
            <a:ext cx="777240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Read from the 0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°, and follow the inner set of numb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" name="Picture 4" descr="Protractor"/>
          <p:cNvPicPr/>
          <p:nvPr/>
        </p:nvPicPr>
        <p:blipFill>
          <a:blip r:embed="rId1"/>
          <a:stretch/>
        </p:blipFill>
        <p:spPr>
          <a:xfrm>
            <a:off x="1258920" y="1916280"/>
            <a:ext cx="3960720" cy="2172960"/>
          </a:xfrm>
          <a:prstGeom prst="rect">
            <a:avLst/>
          </a:prstGeom>
          <a:ln w="0">
            <a:noFill/>
          </a:ln>
        </p:spPr>
      </p:pic>
      <p:sp>
        <p:nvSpPr>
          <p:cNvPr id="76" name="Line 5"/>
          <p:cNvSpPr/>
          <p:nvPr/>
        </p:nvSpPr>
        <p:spPr>
          <a:xfrm flipV="1">
            <a:off x="3203640" y="1773000"/>
            <a:ext cx="2952720" cy="2089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Line 6"/>
          <p:cNvSpPr/>
          <p:nvPr/>
        </p:nvSpPr>
        <p:spPr>
          <a:xfrm>
            <a:off x="3203640" y="3860640"/>
            <a:ext cx="3673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AutoShape 7"/>
          <p:cNvSpPr/>
          <p:nvPr/>
        </p:nvSpPr>
        <p:spPr>
          <a:xfrm>
            <a:off x="4356000" y="4005360"/>
            <a:ext cx="486000" cy="976320"/>
          </a:xfrm>
          <a:prstGeom prst="upArrow">
            <a:avLst>
              <a:gd name="adj1" fmla="val 50000"/>
              <a:gd name="adj2" fmla="val 50222"/>
            </a:avLst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1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1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,-8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96,-92,-8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1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,-8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96,-92,-8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1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4650"/>
                            </p:stCondLst>
                            <p:childTnLst>
                              <p:par>
                                <p:cTn id="11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00"/>
                </a:solidFill>
                <a:latin typeface="Comic Sans MS"/>
              </a:rPr>
              <a:t>Once you reach 30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° you need to be careful!!!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5300640"/>
            <a:ext cx="777240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You then need to look at the 1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° markings on the outer set of numb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1" name="Picture 4" descr="Protractor"/>
          <p:cNvPicPr/>
          <p:nvPr/>
        </p:nvPicPr>
        <p:blipFill>
          <a:blip r:embed="rId1"/>
          <a:stretch/>
        </p:blipFill>
        <p:spPr>
          <a:xfrm>
            <a:off x="1258920" y="1916280"/>
            <a:ext cx="3960720" cy="2172960"/>
          </a:xfrm>
          <a:prstGeom prst="rect">
            <a:avLst/>
          </a:prstGeom>
          <a:ln w="0">
            <a:noFill/>
          </a:ln>
        </p:spPr>
      </p:pic>
      <p:sp>
        <p:nvSpPr>
          <p:cNvPr id="82" name="Line 5"/>
          <p:cNvSpPr/>
          <p:nvPr/>
        </p:nvSpPr>
        <p:spPr>
          <a:xfrm flipV="1">
            <a:off x="3203640" y="1773000"/>
            <a:ext cx="2952720" cy="2089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Line 6"/>
          <p:cNvSpPr/>
          <p:nvPr/>
        </p:nvSpPr>
        <p:spPr>
          <a:xfrm>
            <a:off x="3203640" y="3860640"/>
            <a:ext cx="3673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AutoShape 7"/>
          <p:cNvSpPr/>
          <p:nvPr/>
        </p:nvSpPr>
        <p:spPr>
          <a:xfrm rot="16200000">
            <a:off x="5177520" y="231948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6825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600" spc="-1" strike="noStrike">
                <a:solidFill>
                  <a:srgbClr val="ffff00"/>
                </a:solidFill>
                <a:latin typeface="Comic Sans MS"/>
              </a:rPr>
              <a:t>What does it measure?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26920" y="4653000"/>
            <a:ext cx="777240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This angle measures 35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Picture 4" descr="Protractor"/>
          <p:cNvPicPr/>
          <p:nvPr/>
        </p:nvPicPr>
        <p:blipFill>
          <a:blip r:embed="rId1"/>
          <a:stretch/>
        </p:blipFill>
        <p:spPr>
          <a:xfrm>
            <a:off x="1258920" y="1916280"/>
            <a:ext cx="3960720" cy="2172960"/>
          </a:xfrm>
          <a:prstGeom prst="rect">
            <a:avLst/>
          </a:prstGeom>
          <a:ln w="0">
            <a:noFill/>
          </a:ln>
        </p:spPr>
      </p:pic>
      <p:sp>
        <p:nvSpPr>
          <p:cNvPr id="88" name="Line 5"/>
          <p:cNvSpPr/>
          <p:nvPr/>
        </p:nvSpPr>
        <p:spPr>
          <a:xfrm flipV="1">
            <a:off x="3203640" y="1773000"/>
            <a:ext cx="2952720" cy="2089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Line 6"/>
          <p:cNvSpPr/>
          <p:nvPr/>
        </p:nvSpPr>
        <p:spPr>
          <a:xfrm>
            <a:off x="3203640" y="3860640"/>
            <a:ext cx="3673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 rot="16200000">
            <a:off x="5177520" y="231948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35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6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8925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ffff00"/>
                </a:solidFill>
                <a:latin typeface="Comic Sans MS"/>
              </a:rPr>
              <a:t>Measuring, calculating and drawing angles..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Comic Sans MS"/>
              </a:rPr>
              <a:t>Remember our learning objectives today 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ff"/>
                </a:solidFill>
                <a:latin typeface="Comic Sans MS"/>
              </a:rPr>
              <a:t>To use a protractor t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ff"/>
                </a:solidFill>
                <a:latin typeface="Comic Sans MS"/>
              </a:rPr>
              <a:t>measure acute and obtuse angles to the nearest degre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ff"/>
                </a:solidFill>
                <a:latin typeface="Comic Sans MS"/>
              </a:rPr>
              <a:t>draw acute and obtuse angles to the nearest degre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ff"/>
                </a:solidFill>
                <a:latin typeface="Comic Sans MS"/>
              </a:rPr>
              <a:t>To calculate angles on a straight li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Picture 4" descr="MCj03404080000[1]"/>
          <p:cNvPicPr/>
          <p:nvPr/>
        </p:nvPicPr>
        <p:blipFill>
          <a:blip r:embed="rId1"/>
          <a:stretch/>
        </p:blipFill>
        <p:spPr>
          <a:xfrm rot="1230000">
            <a:off x="1403280" y="5157720"/>
            <a:ext cx="280692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5775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72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065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13875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635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3T18:14:05Z</dcterms:created>
  <dc:creator>dan</dc:creator>
  <dc:description/>
  <dc:language>en-US</dc:language>
  <cp:lastModifiedBy>RomaK</cp:lastModifiedBy>
  <dcterms:modified xsi:type="dcterms:W3CDTF">2015-09-04T09:18:15Z</dcterms:modified>
  <cp:revision>5</cp:revision>
  <dc:subject/>
  <dc:title>Measuring, calculating and drawing angles...</dc:title>
</cp:coreProperties>
</file>